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830B-0BB8-451F-9235-0A2FACE0D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1A98-A870-4544-84DE-94F73F067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1855-D5FE-4ADF-9E09-ADEA78132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BBD1-AF3C-4864-932D-D672FBBE6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21E7-AC63-4C04-A3F0-9F3C22B1F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3D2B-F4A5-4E0A-8633-6B183C474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E239-4CE5-4A47-84DC-58CF6DAAA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5454-A0FB-44DF-A3FD-60DAFD30E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0CC1-B9DD-4FD4-95BE-88ED61A9D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9658-78E6-4FC1-9D23-45CAEFCD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AA70-5EE2-42F1-A8ED-793375E0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D475-BB80-4C2F-AA4E-1E8590D5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93433-84F3-4B77-9135-C026666BF9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Scho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y Kam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1" descr=""/>
          <p:cNvPicPr/>
          <p:nvPr/>
        </p:nvPicPr>
        <p:blipFill>
          <a:blip r:embed="rId1"/>
          <a:stretch/>
        </p:blipFill>
        <p:spPr>
          <a:xfrm>
            <a:off x="3657600" y="33480"/>
            <a:ext cx="2209680" cy="19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Our Scho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mony Ro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 Roo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u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ff Ro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mb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Teac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s.S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s.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s.Tho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s.J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s.Har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s.Willi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s.Tho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r.Rob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222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fore  Going Inside We Have A Play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We Line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Dinner We Have 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Play Times We Have To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10:57:52Z</dcterms:created>
  <dc:creator>4glenb2</dc:creator>
  <dc:description/>
  <dc:language>en-US</dc:language>
  <cp:lastModifiedBy>4glenb2</cp:lastModifiedBy>
  <dcterms:modified xsi:type="dcterms:W3CDTF">2009-09-30T10:59:02Z</dcterms:modified>
  <cp:revision>1</cp:revision>
  <dc:subject/>
  <dc:title>Our School</dc:title>
</cp:coreProperties>
</file>